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4CE-F222-441D-94D0-405D1BCA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3A4-9EDF-452C-9F1C-5DB33EF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FD5-CE79-4DBF-9785-37D0D59B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11C-9F71-443B-B19E-C4F76D53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CAAF-FE52-4620-89AA-F23F5EA2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6CC0-B2BF-49B7-8509-A3AFA061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D41A-3E5E-41FB-97E2-EA927B08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7D92-0EF3-4001-A0B5-0ADA5F4C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DFE9-1D7B-4F2D-98E9-CCD17E3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C00E-1E81-4ACE-A894-5A45270F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713-FC2E-416E-90B2-89D4E674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321-78C3-46BE-B45A-651546E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478E-5998-42E0-9C23-8DB35C5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0C12-297D-4C95-A7AE-146EE482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6C0-8292-4E90-A192-2D962A1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664-EAD7-4827-A6D4-A737D505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7808-3626-48BE-B6DF-07E5142C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64B-99ED-420F-8E79-26F9BB62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4FD-0FA7-4E28-BA3E-75E782A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82B-4D5E-4FB9-BB99-00B8A8BD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FF8-2000-4F9E-89BC-91A64DFF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023-60DB-4E69-8C15-92798CD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1F4-7FA5-41AE-946A-AA87D92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DB7-EAA3-48C7-BAA8-6630402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D31-1A87-418A-8976-EF213BB03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A5CA-5702-4C63-BC9F-2CBBE20A5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tempts to Meet the Software Development Challe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nited Kingdo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vey Programme  $ 470 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thrust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l method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ware reli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ware metr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lligent integrated software engineering environments based on UNIX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Department of Defense realized that the SDI needed 25m LOC and 2000 engineers, full time for 11 years.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hortage by the year 2000 of 1 million software engineers in defense industry alone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proaches to address the  software development challenges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Increase number of profession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Use software development 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Decrease the technology ga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ganized attempts in U.S.A. to address software challen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D- STARS progra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ftware Technology for Adaptable and Reliable Syst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ftware Engineering Institute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ed to: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vide testing ground for software development 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chnology transf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stablish educational programs on software enginee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ganized attempts in U.S.A. to address software challen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electronics &amp; Computer Consortium (MCC) in Austin, T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mbined (long-term) research effort of indust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oal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Develop the technology to improve software productivity and quality, and transfer that technology to the sponsoring compan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: Leonardo started in 1988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ntrated 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miconductor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LSI/ C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B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B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fac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ganized attempts in U.S.A. to address software challeng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ware Productivity Consortium (SPC) in Virginia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-15 aerospace compan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bje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improve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Mission Critical Computer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C Focus Area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nowledge based syst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ftware prototyp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usable Softw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stems enginee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ganized attempts in U.S.A. to address software challen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SF’s Industry/ University Cooperati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Cen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ly 50 I/UCRCs in U.S.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in software engineering, the SERC, with sites at BSU, Purdue, WVU, U of Fla, Oregon, UNF, UWF, Penn State, U of IL, U of Limeri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ap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Aiming at making revolutionary gains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-electron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 proces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supporting technologies to create the intelligent mach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Software Engineering Research Center’s (SERC’s) Research Directi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nex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ap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alyst for most of the compu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logy efforts in U.S. and Euro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CC and SPC in U.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ap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pan software industry recognized its weaknesses, especially in technologically advanced softwa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strategy that was successful in electronics and automobile industry: (create) software facto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its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re based on standard methodologies which are precise and consis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hodologies are used corporate- w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iation from the standard is not allow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on support is totally provided and directly focused on implementing the methodolog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assurance is prime component of the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factories built around A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ap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GMA project: government/industry cooperative project to create a nation-wide computer network built on the UNIX operating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uro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SPRIT project (European Program for R&amp;D in Info Tech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vernment and industry funded, organized under the European Economic Community bann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als of ESPR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tain a competitive advantage in information 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mote a rapid transfer of technology from lab to indust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mote use of common standards of information 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SPRIT funded, at $1.3 B, 250 proje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SPRIT  components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ment of a fully integrated project support environ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ment of a life cycle process supporting rapid proto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ication, development, and support of reusable softwar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1T15:09:40Z</dcterms:created>
  <dc:creator>Chris Reidy</dc:creator>
  <dc:description/>
  <dc:language>en-US</dc:language>
  <cp:lastModifiedBy>wzage</cp:lastModifiedBy>
  <cp:lastPrinted>1997-11-21T16:50:38Z</cp:lastPrinted>
  <dcterms:modified xsi:type="dcterms:W3CDTF">2008-10-06T16:35:29Z</dcterms:modified>
  <cp:revision>19</cp:revision>
  <dc:subject/>
  <dc:title>Attempts to Meet the Software Development Challenges</dc:title>
</cp:coreProperties>
</file>